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587D-DBDD-4FFC-839A-622665F1A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502B-6BF2-4E63-A937-232639AE8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7A9C2-41DB-42C4-ACA3-1EF25A8E3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2372-F8D6-45A4-A189-E35BB301D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E8047-1EB8-438B-BD5B-3533E665C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70C0-052B-41EF-B578-A5357B79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8162-241C-43EE-AE24-682A11350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160D-2854-429C-8405-DF1E217EB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A397D-4227-48FC-9ED0-6723AC29F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5589D-6808-49F8-A3C2-7484BA0B6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D4EB-DB00-49B4-91EA-4CC768A4A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B4B1-0280-4705-A3F5-665B4ABD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BD3C1-C453-4556-93BC-3B2BCA8D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6E0-6CA0-455F-B74A-6F149CA50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56AB-85FB-4720-96FB-E6D5024C9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2C603-38FD-46AC-A5A9-BE9714993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2917-1A91-45E9-95DE-EA28EEEAA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1070-3574-47BC-BADC-B9610B94B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EE98-9937-4E10-98DB-9F8EDFBB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2F87-DBD0-4BCC-92C2-5056CB25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92B-1CF0-4250-BF82-BD0190596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8A2A-EB5A-4EE5-A595-3067A0C2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5823-9D56-4F57-9C4B-6C11E27D7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8DE1B-E05C-4109-B43D-BAD7BFAB8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24AA-81B2-498D-BB40-B0C85BA3F2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61E97-BF42-4688-91B4-A6B59B61D76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8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971640" y="692280"/>
            <a:ext cx="7704000" cy="40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39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Cherche l’intrus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court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ri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mi-long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ong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pas ma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nu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sup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trent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achid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Yan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Samue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Maroc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tenni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volleybal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golf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ouer au cricket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Franc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Gr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èc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L’Australi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L’Angleterr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bleu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oug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ver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aun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travaill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voyag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natatio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dormir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ir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lectur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s livre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rayon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s vacances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bouch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jamb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s doigts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pai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un sandwich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lai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une baguett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lapi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eval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hamst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ocola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’eau 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vi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bi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èr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le cidre</a:t>
            </a:r>
            <a:br>
              <a:rPr sz="6000"/>
            </a:b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’oiseau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a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ie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cheval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mardi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jeudi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jaun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e dimanch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rand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oug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petit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ro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gomm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vill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campagn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montagn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maison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ferm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a mer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l’appartement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marrant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gourmand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bavard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fris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é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Juliett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Pierre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C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éline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Magalie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roux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yeux</a:t>
            </a:r>
            <a:br>
              <a:rPr sz="6000"/>
            </a:br>
            <a:br>
              <a:rPr sz="6000"/>
            </a:br>
            <a:r>
              <a:rPr b="0" lang="en-GB" sz="6000" spc="-1" strike="noStrike">
                <a:solidFill>
                  <a:srgbClr val="ccecff"/>
                </a:solidFill>
                <a:latin typeface="Arial"/>
              </a:rPr>
              <a:t>ch</a:t>
            </a: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âtains</a:t>
            </a: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ccecff"/>
                </a:solidFill>
                <a:latin typeface="Arial"/>
                <a:ea typeface="Arial"/>
              </a:rPr>
              <a:t>blonds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5:14:47Z</dcterms:created>
  <dc:creator> </dc:creator>
  <dc:description/>
  <dc:language>en-US</dc:language>
  <cp:lastModifiedBy> </cp:lastModifiedBy>
  <dcterms:modified xsi:type="dcterms:W3CDTF">2004-09-18T09:44:33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